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E32-8B66-4AF9-B7C0-105A99DE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413-7FD4-4C67-8167-F94AD45F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1AE-B8BA-4C9A-915B-E236535E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A43-AF43-4E7F-8DCD-241D7A5B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773-4B8C-4723-8170-5C9A69C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325-15D7-4869-B8C8-BE0AC50D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D26-5004-4201-B43E-5878AB7E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22E-D561-44CC-9F59-102920E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7AA-AFD2-4277-80A6-E241ACB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B66-E427-4521-8235-7C52FA76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049-5E94-47DA-8304-807ABFD5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3E9-52EF-4085-95F6-37F2D6A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E2EB-4FC2-4C15-8BD0-69C923F9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tabol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lactose is absent, the active repressor blocks the operator so the mRNA can’t read the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lactose is present, the lactose sugar joins on to the repressor and makes it not fit the operator sire, so the mRNA can read the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ual pg 15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metimes a gene action can only be blocked by an effector, which makes the repressor the right shape to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se genes are turned on all the time until something blocks it, the presence of an effector in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1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it Standard 8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tein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tabolic path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en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chael ‘Gene control in Eukaryotes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is metabo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hemical reactions that happen in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ctions are all a series of steps that change the first chemical into the next chemical and so on until the end of the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ch step is controlled by a protein so that means each step is controlled by a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there are two forms of a gene (the dominant and the recessive alleles) there will be two pathways to go to get to two different en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urning genes on and of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prokaryotes it has been easy to study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would be a good way for a cell to measure when to start making a protein, by turning a gene on and o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e part of the chromosome is the actual structural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other part is the promoter. This is where the RNA polymerase will join on to read the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fter the promoter is the operator. This is where the repressor can bind on to stop the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final place is the Regulator Gene which is where the repressor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4 parts to an oper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ulator – repressor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motor  - mRNA j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rator   - blocking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lac repressor protein stops transcription of the lactose opero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ctose inactivates the repressor and allows RNA pol transcription: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ctose is a sugar that we can use for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it is present the enzyme to break it down needs to be made, when lactose is not around cells don’t need to make the enz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 the cells know when to make the enzy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4:52:53Z</dcterms:created>
  <dc:creator>Ministry of Education</dc:creator>
  <dc:description/>
  <dc:language>en-US</dc:language>
  <cp:lastModifiedBy>Ministry of Education</cp:lastModifiedBy>
  <dcterms:modified xsi:type="dcterms:W3CDTF">2009-07-12T21:52:13Z</dcterms:modified>
  <cp:revision>8</cp:revision>
  <dc:subject/>
  <dc:title>Metabolic Pathways</dc:title>
</cp:coreProperties>
</file>